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7D4-8B25-47FC-9F3E-25F09511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4F9-C969-4DBD-9365-F14B52EB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A02-C01C-4646-BE44-4BDC3049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9D5-1F98-4B7F-96D2-599F6DF5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789-D7E7-4AE4-BC16-12FFFF65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715-B1F5-4F51-8C4E-DFCD3D4B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792-8A76-439D-8405-EFA83628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18F-4735-4644-84AD-FD053726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CA2-0B9D-4B7F-8EBE-89DD5D82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7FA-7CC5-4464-B2E2-242741EE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521-6314-40C0-AFFA-1F80605A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E89-D2FC-45E1-992B-22673207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27EA-275D-47D2-8089-259859E326E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LD WAR 1953-19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156200" cy="4452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61722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kita Khrushchev (1958-196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2496" b="0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79640" y="60912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Berlin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vision of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49 the Western powers (USA, GB, France) joined their zones together to form the Federal German Republic. (West Germ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ns responded by turning their zone into the German Democratic Republic. (East Germ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Germany prospered under the Marshall Pl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0600" y="2114640"/>
            <a:ext cx="40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eople living in East Germany were not as well off as West Germans and escaped into West Ger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July, 1961 approximately 10 000 East Germans were leaving per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000 000 people had fled since 194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ll con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only embarrassing for the government of East Germany but damaging economically because many of the refugees were skilled work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ugust of 1961 the East German government constructs a wall to stop people from leaving East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45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8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5 km of the US co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59 Communist Revolution in Cuba led by Fidel Ca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0" y="2187720"/>
            <a:ext cx="38149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a con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ba nationalized all industry in Cub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US business and interests in Cuba were lo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claimed they were stolen by Cuban gov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esident Eisenhower agreed to help Cubans wishing to overthrow Cas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January, 1961 John F. Kennedy takes over as President and continues this prom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3280" y="2201760"/>
            <a:ext cx="3814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 OF PI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il 1961, 1400 anti-Castro Cubans landed at the Bay of Pigs in Cuba to try and overthrow Ca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ro was ready with troops and artillery and stopped the thr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9625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 of Pigs cont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tro scared that Kennedy would help other rebellions asked Khrushchev for help, and Khrushchev sends weapons to Cas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nnedy worried about events keeps a close eye on Cu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3280" y="2728800"/>
            <a:ext cx="38149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-B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, 1952 American scientists exploded their first H-Bom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drogen bomb many times more destructive than the A-Bomb used at Hirosh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3, Russians also had H-Bom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re are optimists and pessimists in Britain’, the pessimists think that 5 h-bombs will wipe out everyone in Britain, the optimists think it would take eight. We have two hundred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29120" y="1981080"/>
            <a:ext cx="324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08360" y="609120"/>
            <a:ext cx="474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uban Missile Cri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s discovered Russian missile bases being built in 196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ident Kennedy ordered an American blockade (quarantine) of Cuba to stop Russian ships from carrying missiles into Cu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00600" y="1878120"/>
            <a:ext cx="396252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nedy then ordered Khrushchev to dismantle the missile bases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attack from Cuba would be treated as a direct attack on the USA by USSR and ordered 156 long range missiles aimed at the USSR to be ready to f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716360" y="2119320"/>
            <a:ext cx="36259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7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October 29, 1961 4 days after the blockade began Khrushchev “blinked first” and ordered the dismantling of all missile bases in Cu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 Kennedy called off the blockade and promised to leave Cuba al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ange in Superpower Relation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7878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sons for De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realized how dangerous the situation had be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fighting in Vietnam - needed to slow Arms Race to reduce burden on econo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concerned about Communist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wanted to reduce economic expendi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tter Re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3 Hotline set up; nuclear test ban Treaty banned tests abov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8: Non-proliferation treaty banned spread of nuclear secr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9: Strategic Arms Limitation Talks began - reducing mid-range nuclear weapons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75280" y="2327400"/>
            <a:ext cx="33829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-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2: President Nixon visits Moscow and SALT 1 treaty 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2: Agreements between East and West Germany 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5: Space - US astronauts and Soviet Cosmonauts docked together in space.  Visible sig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3280" y="2529000"/>
            <a:ext cx="38149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sin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19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sinki Agreement signed by 35 countries (including USSR and U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tion of Human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borders of Europe acce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 of commitment to improve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13360" y="2154240"/>
            <a:ext cx="307656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9: SALT 2 treaty proposed to cover long-range nuclear miss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ratified by US congress due to Soviet invasion of Afghanis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SR claimed they had been asked to 'restore order'.  US saw it as an invasion and supported Afghan reb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2568600"/>
            <a:ext cx="411480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isenhower &amp; Du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52 Eisenhower was elected president of the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appoints John Foster Dulles as his Secretary of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lles believed that communists were plotting to conquer the world and he was determined to stop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08448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trust and suspicion continued during Detente, but this was a period that saw co-operation and agre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sides had much to gain from increased co-operation - such as savings from a slower Arms race and trade benef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54, Dulles convinces nations in Asia to join the South East Asia Treaty Organ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 was to contain communism in As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3111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ungarian Uprising (195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ngary had been under Soviet control since 19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of Hungary rebelled against their communist l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n tanks were sent in and crushed the r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ajor attempt by a satellite state to try and win indepen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270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utnik (195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, 1957 the USSR sent the world’s first earth satellite into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3280" y="266076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Miss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s scared of Soviet missile capability sped up production of rocke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iggest rockets were called ICBM’s. (Inter-Continental Ballistic Miss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aris (carried by nuclear submari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end of the 1950’s the superpowers had enough nuclear missiles to kill everyone on earth. (balance of ter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3280" y="3011400"/>
            <a:ext cx="38149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hrushchev &amp; Peaceful Co-Exist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rushchev believing that war would simply destroy each other turned to Peaceful co-exis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ing peacefully side by side knowing that capitalism would eventually destroy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29120" y="1981080"/>
            <a:ext cx="324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U-2 Inci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senhower welcomed Khrushchev’s peaceful co-existence and they agreed to meet in Paris in 1960 to talk pe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leaders were on there way to the summit an American U-2 spy plane was shot down over Russ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hrushchev angrily accused Eisenhower of planning for war while talking peace and refused to attend the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286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23:21:14Z</dcterms:created>
  <dc:creator>Ceara Ormond</dc:creator>
  <dc:description/>
  <dc:language>en-US</dc:language>
  <cp:lastModifiedBy>ripkensa</cp:lastModifiedBy>
  <dcterms:modified xsi:type="dcterms:W3CDTF">2009-05-04T23:34:13Z</dcterms:modified>
  <cp:revision>1</cp:revision>
  <dc:subject/>
  <dc:title>THE COLD WAR 1953-1960</dc:title>
</cp:coreProperties>
</file>